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709-E84B-479D-99CD-E0A5C004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28F-AE47-4055-932D-FD5863E4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DA1-96CA-4B3B-90F3-E25A6058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2096-B175-4051-872B-510AD422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A00-EE87-4BDF-9D44-274B1137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4CF-AB76-48CB-AB5B-230EA776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9A9-7C0C-4201-9380-4B396015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80A-BA00-404E-A143-4960F5E0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A53-7F75-40CC-A914-A72C0D4B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D1C-1D7E-449C-80FF-8D21B5DB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B88-5F18-4025-B025-57A4EAEA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0267-31A8-444C-83CC-8CAC4E0D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746B-C0EB-494B-984A-EE8456CAC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981080" y="2209680"/>
            <a:ext cx="3733920" cy="25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0"/>
          <p:cNvCxnSpPr>
            <a:stCxn id="41" idx="0"/>
            <a:endCxn id="42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2"/>
          <p:cNvCxnSpPr>
            <a:stCxn id="42" idx="3"/>
            <a:endCxn id="44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24"/>
          <p:cNvCxnSpPr>
            <a:stCxn id="42" idx="2"/>
            <a:endCxn id="43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Straight Arrow Connector 28"/>
          <p:cNvCxnSpPr>
            <a:stCxn id="43" idx="3"/>
            <a:endCxn id="45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30"/>
          <p:cNvCxnSpPr>
            <a:stCxn id="45" idx="3"/>
            <a:endCxn id="47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32"/>
          <p:cNvCxnSpPr>
            <a:stCxn id="43" idx="3"/>
            <a:endCxn id="46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34"/>
          <p:cNvCxnSpPr>
            <a:stCxn id="46" idx="2"/>
            <a:endCxn id="48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36"/>
          <p:cNvCxnSpPr>
            <a:stCxn id="43" idx="3"/>
            <a:endCxn id="49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38"/>
          <p:cNvCxnSpPr>
            <a:stCxn id="43" idx="2"/>
            <a:endCxn id="50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40"/>
          <p:cNvCxnSpPr>
            <a:stCxn id="50" idx="2"/>
            <a:endCxn id="51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42"/>
          <p:cNvCxnSpPr>
            <a:stCxn id="51" idx="1"/>
            <a:endCxn id="52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44"/>
          <p:cNvCxnSpPr>
            <a:stCxn id="52" idx="1"/>
            <a:endCxn id="53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46"/>
          <p:cNvCxnSpPr>
            <a:stCxn id="54" idx="3"/>
            <a:endCxn id="55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48"/>
          <p:cNvCxnSpPr>
            <a:stCxn id="53" idx="2"/>
            <a:endCxn id="54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50"/>
          <p:cNvCxnSpPr>
            <a:stCxn id="53" idx="0"/>
            <a:endCxn id="56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52"/>
          <p:cNvCxnSpPr>
            <a:stCxn id="56" idx="0"/>
            <a:endCxn id="41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49"/>
          <p:cNvCxnSpPr>
            <a:stCxn id="75" idx="1"/>
            <a:endCxn id="50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Frame 37"/>
          <p:cNvSpPr/>
          <p:nvPr/>
        </p:nvSpPr>
        <p:spPr>
          <a:xfrm>
            <a:off x="990720" y="4648320"/>
            <a:ext cx="2286000" cy="914400"/>
          </a:xfrm>
          <a:custGeom>
            <a:avLst/>
            <a:gdLst>
              <a:gd name="textAreaLeft" fmla="*/ 114120 w 2286000"/>
              <a:gd name="textAreaRight" fmla="*/ 2171880 w 2286000"/>
              <a:gd name="textAreaTop" fmla="*/ 114120 h 914400"/>
              <a:gd name="textAreaBottom" fmla="*/ 800280 h 914400"/>
            </a:gdLst>
            <a:ahLst/>
            <a:rect l="textAreaLeft" t="textAreaTop" r="textAreaRight" b="textAreaBottom"/>
            <a:pathLst>
              <a:path w="2286000" h="914400">
                <a:moveTo>
                  <a:pt x="0" y="0"/>
                </a:moveTo>
                <a:lnTo>
                  <a:pt x="2286000" y="0"/>
                </a:lnTo>
                <a:lnTo>
                  <a:pt x="2286000" y="914400"/>
                </a:lnTo>
                <a:lnTo>
                  <a:pt x="0" y="914400"/>
                </a:lnTo>
                <a:close/>
                <a:moveTo>
                  <a:pt x="114300" y="114300"/>
                </a:moveTo>
                <a:lnTo>
                  <a:pt x="114300" y="800100"/>
                </a:lnTo>
                <a:lnTo>
                  <a:pt x="2171700" y="800100"/>
                </a:lnTo>
                <a:lnTo>
                  <a:pt x="2171700" y="1143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ame 39"/>
          <p:cNvSpPr/>
          <p:nvPr/>
        </p:nvSpPr>
        <p:spPr>
          <a:xfrm>
            <a:off x="0" y="5486400"/>
            <a:ext cx="2286000" cy="914400"/>
          </a:xfrm>
          <a:custGeom>
            <a:avLst/>
            <a:gdLst>
              <a:gd name="textAreaLeft" fmla="*/ 114120 w 2286000"/>
              <a:gd name="textAreaRight" fmla="*/ 2171880 w 2286000"/>
              <a:gd name="textAreaTop" fmla="*/ 114120 h 914400"/>
              <a:gd name="textAreaBottom" fmla="*/ 800280 h 914400"/>
            </a:gdLst>
            <a:ahLst/>
            <a:rect l="textAreaLeft" t="textAreaTop" r="textAreaRight" b="textAreaBottom"/>
            <a:pathLst>
              <a:path w="2286000" h="914400">
                <a:moveTo>
                  <a:pt x="0" y="0"/>
                </a:moveTo>
                <a:lnTo>
                  <a:pt x="2286000" y="0"/>
                </a:lnTo>
                <a:lnTo>
                  <a:pt x="2286000" y="914400"/>
                </a:lnTo>
                <a:lnTo>
                  <a:pt x="0" y="914400"/>
                </a:lnTo>
                <a:close/>
                <a:moveTo>
                  <a:pt x="114300" y="114300"/>
                </a:moveTo>
                <a:lnTo>
                  <a:pt x="114300" y="800100"/>
                </a:lnTo>
                <a:lnTo>
                  <a:pt x="2171700" y="800100"/>
                </a:lnTo>
                <a:lnTo>
                  <a:pt x="2171700" y="1143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"/>
          <p:cNvSpPr/>
          <p:nvPr/>
        </p:nvSpPr>
        <p:spPr>
          <a:xfrm>
            <a:off x="2819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0" y="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to Make a Good Data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762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971800" y="762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ve th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971800" y="12193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ffect of the (IV) on the (D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0" y="1676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895480" y="18288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left colu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-units of measurement if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0" y="3429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971800" y="35812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iddle colum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-units of measurement if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2895480" y="2666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s go undern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297180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als go undern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2"/>
          <p:cNvSpPr/>
          <p:nvPr/>
        </p:nvSpPr>
        <p:spPr>
          <a:xfrm>
            <a:off x="0" y="3962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819520" y="4110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last column 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2743200" y="4648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rials together t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by the # of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"/>
          <p:cNvSpPr/>
          <p:nvPr/>
        </p:nvSpPr>
        <p:spPr>
          <a:xfrm>
            <a:off x="2819520" y="10666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0" y="602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mmary Statement:  Why is it important to have a good data t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0" y="1600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895480" y="16765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last column 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2743200" y="2362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fference between the highest data point and the lowest data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to Make a Good Data Table,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0" y="609480"/>
            <a:ext cx="8915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ffect of ____________________ on 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V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D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676520"/>
          <a:ext cx="9144000" cy="4221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5320"/>
                <a:gridCol w="1522440"/>
                <a:gridCol w="1524240"/>
                <a:gridCol w="1523880"/>
              </a:tblGrid>
              <a:tr h="712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: __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:  _____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cience 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ke a data table for the data below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ach person had 3 trials.  Include A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 = Height of person throwing free th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s:  6 feet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5 feet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0 feet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 = # of free throws made in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s of Measurement: # of baskets ma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(each person tried 3 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son who was 6 ft made 5, then 7 and then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son who was 5 ½ ft made 6, then 4, and then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son who was 5 ft made 2, then 4, and th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MSj00746720000[1].wav" descr=""/>
          <p:cNvPicPr/>
          <p:nvPr/>
        </p:nvPicPr>
        <p:blipFill>
          <a:blip r:embed="rId1"/>
          <a:stretch/>
        </p:blipFill>
        <p:spPr>
          <a:xfrm>
            <a:off x="8077320" y="3733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krose\Local Settings\Temporary Internet Files\Content.IE5\9SLX7TH3\MMAG00422_0000[1].gif"/>
          <p:cNvPicPr/>
          <p:nvPr/>
        </p:nvPicPr>
        <p:blipFill>
          <a:blip r:embed="rId2"/>
          <a:stretch/>
        </p:blipFill>
        <p:spPr>
          <a:xfrm>
            <a:off x="6553080" y="380880"/>
            <a:ext cx="2286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215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33520" y="1600200"/>
          <a:ext cx="8153280" cy="4309920"/>
        </p:xfrm>
        <a:graphic>
          <a:graphicData uri="http://schemas.openxmlformats.org/drawingml/2006/table">
            <a:tbl>
              <a:tblPr/>
              <a:tblGrid>
                <a:gridCol w="1358640"/>
                <a:gridCol w="1359000"/>
                <a:gridCol w="1359000"/>
                <a:gridCol w="1360440"/>
                <a:gridCol w="1357200"/>
                <a:gridCol w="1359000"/>
              </a:tblGrid>
              <a:tr h="1267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 of Per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e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Free Throws Made in 2 minut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# of baskets mad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30"/>
          <p:cNvSpPr/>
          <p:nvPr/>
        </p:nvSpPr>
        <p:spPr>
          <a:xfrm>
            <a:off x="0" y="8380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ffect of Height of Person on Number of Free Throws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0" y="609480"/>
            <a:ext cx="8915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ffect 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ount of Chemic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me to Lose Extra Antenn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V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D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1828800"/>
          <a:ext cx="9144000" cy="4321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5320"/>
                <a:gridCol w="1522440"/>
                <a:gridCol w="1524240"/>
                <a:gridCol w="1523880"/>
              </a:tblGrid>
              <a:tr h="94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of Chem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:  Time to Lose Extra Antennae (day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do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do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3" descr="pink bug.jpg"/>
          <p:cNvPicPr/>
          <p:nvPr/>
        </p:nvPicPr>
        <p:blipFill>
          <a:blip r:embed="rId1"/>
          <a:stretch/>
        </p:blipFill>
        <p:spPr>
          <a:xfrm>
            <a:off x="7924680" y="380880"/>
            <a:ext cx="990720" cy="1017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304920" y="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hart 1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8:01:08Z</dcterms:created>
  <dc:creator>itsuser</dc:creator>
  <dc:description/>
  <dc:language>en-US</dc:language>
  <cp:lastModifiedBy>Jean Kavanagh</cp:lastModifiedBy>
  <dcterms:modified xsi:type="dcterms:W3CDTF">2010-09-03T18:28:57Z</dcterms:modified>
  <cp:revision>44</cp:revision>
  <dc:subject/>
  <dc:title>Slide 1</dc:title>
</cp:coreProperties>
</file>